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27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26.wmf" ContentType="image/x-wmf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F99-6472-4EE9-B8FA-ECE34872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714-BD39-4805-8C77-1C51B2A8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E3A-BAEA-48B0-AB03-06EED37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AF5-6ED2-4241-830B-659C5036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F0A-D6D0-4FF9-B0F3-D0DBF9B4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F4A-39BE-42D1-B22D-1150EBC1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CC2-DC51-4583-852A-2F4BDEB7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5B6-C467-402A-80BA-3977A50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EBD-916A-495A-B493-9A11861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94F-F326-49AC-BBDC-3B608262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07D-A9D4-4AEA-91CA-F6203DE7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06A-F062-49A8-B5D2-82748EA2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2DEA-E58E-43AF-9167-A94BE860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14FC-15E2-46F8-A2BE-16801693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79DC-DDCB-442A-8916-9AE0AB6C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4EF1-9365-4FDB-ADC3-B16B3C67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B9AD-0EFF-416C-AFE5-CC19604C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3C5D-13D9-4389-AB5A-7E1B514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3057-E5AC-468E-94FB-DCEB0431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3949-69AE-4C86-AC52-DDAF34EE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9CBD-6ABF-4BDA-BF76-55BE57C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9061-A9EF-4DC4-A767-43C74B4E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A54A-35CE-4293-AC2C-B3ED85CB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2115-877F-4CFB-AB76-659CF1F0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00200" cy="1239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1828800" y="1495440"/>
            <a:ext cx="691344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39400" y="6311880"/>
            <a:ext cx="53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verview | Problem Definition | Constraints | Formulation |  Conclusions &amp; Recommenda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318520" y="5985000"/>
          <a:ext cx="6667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8520" y="598500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07A3-A888-4D86-93F9-CC02C44A1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00200" cy="1239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874880" y="1482840"/>
            <a:ext cx="6729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D74D-253A-4D6B-BA0D-CD06031FA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qksrv.net/click-1344639-1028196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150920" y="1467000"/>
            <a:ext cx="6346800" cy="186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OKER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40040" y="2116080"/>
            <a:ext cx="29433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xas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ld'e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6000" y="4897440"/>
            <a:ext cx="254304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ric Fehl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guel Puert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k Smosk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ervin U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78520" y="4838760"/>
            <a:ext cx="270684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ll 200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cision Model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fessor Jura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25360" y="4572000"/>
            <a:ext cx="865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ing (ensures no duplication of cards) – Texas Hold’em is a one deck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ing” – rando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of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97560" y="6531120"/>
            <a:ext cx="63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"/>
          <p:cNvSpPr/>
          <p:nvPr/>
        </p:nvSpPr>
        <p:spPr>
          <a:xfrm>
            <a:off x="4611600" y="653112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6920" y="4803840"/>
            <a:ext cx="8775720" cy="1873080"/>
            <a:chOff x="196920" y="4803840"/>
            <a:chExt cx="8775720" cy="187308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96920" y="5006880"/>
              <a:ext cx="87757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549440" y="4803840"/>
              <a:ext cx="1217520" cy="10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5720" y="4462560"/>
            <a:ext cx="1695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ing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39680" y="1801800"/>
            <a:ext cx="4379760" cy="2382840"/>
            <a:chOff x="139680" y="1801800"/>
            <a:chExt cx="4379760" cy="238284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139680" y="2506680"/>
              <a:ext cx="251136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2803680" y="1801800"/>
              <a:ext cx="17157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201680" y="2138400"/>
              <a:ext cx="85680" cy="39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71440" y="2155680"/>
              <a:ext cx="164160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22200" y="1776240"/>
            <a:ext cx="1752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672080" y="1808280"/>
            <a:ext cx="4319640" cy="3097080"/>
            <a:chOff x="4672080" y="1808280"/>
            <a:chExt cx="4319640" cy="3097080"/>
          </a:xfrm>
        </p:grpSpPr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4672080" y="1962000"/>
              <a:ext cx="431964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 flipH="1">
              <a:off x="6734160" y="1808280"/>
              <a:ext cx="14400" cy="47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510160" y="1476360"/>
            <a:ext cx="289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 &amp; Shuffling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66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possible combinations of cards for each player per hand (2 down + 3 best commun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1160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73240" y="2516040"/>
            <a:ext cx="65372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1574280"/>
            <a:ext cx="33926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os are then split into suit worksheet and number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come up with function for ranking all hands to determine winning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397320" y="1854360"/>
            <a:ext cx="5640480" cy="1933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11600" y="653112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46640" y="375300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42200" y="1413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7920" y="4202280"/>
            <a:ext cx="581976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C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d),V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d),…V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large(rng,1)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large(rng,2)*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6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+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rge(rng,5)*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X XX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Pa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pair),V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,…V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countif(rng,V(n))=2}=2;n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(rng)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x(V(n)|n≠mode(rng))*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um(V(rng))-V(1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)- V(3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)*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min(V(n)|n≠mode(rng))*10</a:t>
            </a:r>
            <a:r>
              <a:rPr b="0" lang="en-US" sz="24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9432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i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ir),V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ir),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countif(rng,V(n))=2}=4;n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[(countif(rng,V(n))=2)*V(n)]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{(countif(rng,V(n))=2)*V(n)}-2*V(1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air)]*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um(V(rng))-2*V(1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s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ir)-2*V(2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pair)]*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0836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of a K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3 of a kind),V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,V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countif(rng,mode(rng)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(rng)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x(V(n)|n≠mode(rng))*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in(V(n)|n≠mode(rng))*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high car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st Logical test: Var(rng)=2.5,Ave(rng)=V(3rd c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max(r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nd Logical test: V(1st card)=14,Var(rng)=23.3, Ave(rng)=5.6, Median(rng)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9432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us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1st card),V(2nd card),…V(5th car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Var(suit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See High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XX XX XX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0836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Agenda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exas Hold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&amp;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49280" y="6197760"/>
            <a:ext cx="6618240" cy="434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Ho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3 of a kind),V(pair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countif(rng,mode(rng))=3, Σ{countif(rng,V(n))=2} ≠0; n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ode(rng)*1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  <a:ea typeface="Arial"/>
              </a:rPr>
              <a:t>[sum(rng)-3*mode(rng)]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XX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9432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of a K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4 of a kin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countif(rng,mode(rng))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ode(r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0836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ght Flus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highest car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Flush and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992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2280" y="1693800"/>
            <a:ext cx="88282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Rank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combin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Straight Flus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4 of a Ki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Full Hous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Flus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Straigh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3 of a Ki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Two Pair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One Pai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High Car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03040" y="1720800"/>
            <a:ext cx="8836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Rank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layer: Max(V(10 combinations,9 h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(Maximum hand for each player) for each scenario, where # of players=7,6,5,4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: when player 1 rank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: where # of players = 7,6,5,4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3360" y="1749600"/>
            <a:ext cx="89852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7240" y="2130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08000" y="820800"/>
            <a:ext cx="7032600" cy="5857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57760" y="184320"/>
            <a:ext cx="67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 &amp;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764160" cy="357372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957240" y="830160"/>
            <a:ext cx="4149720" cy="2335320"/>
            <a:chOff x="957240" y="830160"/>
            <a:chExt cx="4149720" cy="2335320"/>
          </a:xfrm>
        </p:grpSpPr>
        <p:sp>
          <p:nvSpPr>
            <p:cNvPr id="269" name=""/>
            <p:cNvSpPr/>
            <p:nvPr/>
          </p:nvSpPr>
          <p:spPr>
            <a:xfrm>
              <a:off x="957240" y="830160"/>
              <a:ext cx="3811680" cy="23353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08320" y="2870280"/>
              <a:ext cx="998640" cy="295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2806560"/>
            <a:ext cx="5402160" cy="4051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340080" y="825480"/>
            <a:ext cx="5587920" cy="2044800"/>
          </a:xfrm>
          <a:prstGeom prst="wedgeRoundRectCallout">
            <a:avLst>
              <a:gd name="adj1" fmla="val -59430"/>
              <a:gd name="adj2" fmla="val 17957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3797280" y="1302840"/>
            <a:ext cx="49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ook Antiqua"/>
              </a:rPr>
              <a:t>Overview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exas Hold‘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layer gets only two cards (which only he can se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ve more cards are dealt face-up (“community card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laye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 the two cards which only he can see when making a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nner is the player at the end who can put together the best five-card poker hand as a combination of his two cards and the “community card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41640" y="653256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Hand Rankings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41640" y="654696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9120" y="1757520"/>
            <a:ext cx="82882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oker Winning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oyal Fl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ive highest cards, being 10 through Ace with all five from the sa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it. There is no suit order in poker so in the unlikely event of two people hav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yal flushes, the result would be a t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traight Fl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ve consecutive cards in numerical order from the same su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ur Of A K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 cards of the same denomination, obviously from different su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ull Ho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e cards of the same denomination, plus a pair of cards of a differen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omination. The three of a kind takes precedence over a pair if there is a t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l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ive cards from the same su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tra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ve consecutive cards in numerical order from different su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ree Of A K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e cards of the same denomination, obviously from different su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wo 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cards of the same denomination, plus another two cards of the sa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omin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two cards of the same denomin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gh C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highest card held, if none of the above are applic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Overview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41640" y="654696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30400" y="3038400"/>
            <a:ext cx="5270400" cy="163980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An Example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46640" y="3268800"/>
            <a:ext cx="812880" cy="11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166840" y="6529320"/>
            <a:ext cx="49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54400" y="1825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90600" y="3063960"/>
            <a:ext cx="10764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93840" y="3902040"/>
            <a:ext cx="1096920" cy="76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273720" y="3309840"/>
            <a:ext cx="801720" cy="11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2657520" y="5016600"/>
            <a:ext cx="79992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733920" y="1576440"/>
            <a:ext cx="799920" cy="114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5343480" y="3303720"/>
            <a:ext cx="782640" cy="111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2808360" y="1560600"/>
            <a:ext cx="793800" cy="113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2422440" y="3255840"/>
            <a:ext cx="81144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3403440" y="3247920"/>
            <a:ext cx="8067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3621240" y="5019840"/>
            <a:ext cx="809640" cy="114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614120" y="1987560"/>
            <a:ext cx="139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ye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Card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64800" y="5433840"/>
            <a:ext cx="139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y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Card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334080" y="2046240"/>
            <a:ext cx="139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y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Card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49120" y="370368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2640" y="1935000"/>
            <a:ext cx="1119600" cy="520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est H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ce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74920" y="5327640"/>
            <a:ext cx="1119600" cy="520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est H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Pair 8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370080" y="5217120"/>
            <a:ext cx="1119600" cy="520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est H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tra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43200" y="4405320"/>
            <a:ext cx="2127240" cy="276480"/>
            <a:chOff x="2743200" y="4405320"/>
            <a:chExt cx="2127240" cy="276480"/>
          </a:xfrm>
        </p:grpSpPr>
        <p:sp>
          <p:nvSpPr>
            <p:cNvPr id="174" name=""/>
            <p:cNvSpPr/>
            <p:nvPr/>
          </p:nvSpPr>
          <p:spPr>
            <a:xfrm>
              <a:off x="3335040" y="4405320"/>
              <a:ext cx="96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 Flop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289400" y="4425840"/>
              <a:ext cx="581040" cy="125280"/>
              <a:chOff x="4289400" y="4425840"/>
              <a:chExt cx="581040" cy="125280"/>
            </a:xfrm>
          </p:grpSpPr>
          <p:sp>
            <p:nvSpPr>
              <p:cNvPr id="176" name=""/>
              <p:cNvSpPr/>
              <p:nvPr/>
            </p:nvSpPr>
            <p:spPr>
              <a:xfrm>
                <a:off x="4289400" y="455112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862520" y="4425840"/>
                <a:ext cx="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743200" y="4425840"/>
              <a:ext cx="595080" cy="117360"/>
              <a:chOff x="2743200" y="4425840"/>
              <a:chExt cx="595080" cy="117360"/>
            </a:xfrm>
          </p:grpSpPr>
          <p:sp>
            <p:nvSpPr>
              <p:cNvPr id="179" name=""/>
              <p:cNvSpPr/>
              <p:nvPr/>
            </p:nvSpPr>
            <p:spPr>
              <a:xfrm>
                <a:off x="2757240" y="454320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743200" y="4425840"/>
                <a:ext cx="0" cy="10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Problem Definiti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88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ying poker it is often difficult to decide whether or not you should keep playing or fold you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ed to produce an easy reference sheet to give the odds of winning a hand given the two cards you were de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60840" y="6531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Model Objectives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188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Texas Hold’em Poker for a given set of “down card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repeated trials, develop odds of winning for each given set of “down card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means for Kervin to minimize his losses the next time he plays Texas Hold’em with his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90720" y="6531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Constraints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e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ffing is ir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Od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0360" y="651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3:11:27Z</dcterms:created>
  <dc:creator>baseuser</dc:creator>
  <dc:description/>
  <dc:language>en-US</dc:language>
  <cp:lastModifiedBy>baseuser</cp:lastModifiedBy>
  <dcterms:modified xsi:type="dcterms:W3CDTF">2003-12-01T00:40:24Z</dcterms:modified>
  <cp:revision>46</cp:revision>
  <dc:subject/>
  <dc:title>Slide 1</dc:title>
</cp:coreProperties>
</file>